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316-8657-471E-96E2-14959A9A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58D6-EC4E-4132-A36B-FDC25AB2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2574-F83E-4215-86F2-3E08B92D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3016-5A51-4532-9966-FBD8BB8F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83C-668F-4D90-BAFA-218988DD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1042-EFE4-445A-8033-DDF5EB6A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5A24-6824-44CE-A644-DF247E3F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7CC5-141C-49C0-B488-3E46111E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CE3D-690C-4626-B378-80831360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8B14-12CC-4191-A685-7CDB073F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BE60-460B-4413-AA4F-289F5411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E03-BF42-4803-B17A-B2E178A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5E79-3A8F-440A-AB60-AEB25CF3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73DB-EB98-49EE-8B82-FB96E6BC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0B88-0458-4A8F-A192-97D76FA3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1E4F-09EC-4654-B7B7-CE20390C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F303-CD9D-4DE9-AC6B-0A4FB32E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A456-F46E-405D-9489-B1479527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7E872-24F2-4F6B-811F-67B1883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EEB15-8BE6-48AE-BB1C-9C9CBB5C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EC4F-4078-4790-A71C-C51CE2F7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AE52-22F6-4AC0-A020-714C5F74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177-164D-4272-9427-4533B358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3E84F-63D4-4879-8D45-F6315CA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36883-D65F-47E6-8FB1-1218365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C880-6547-494B-B773-810B1C9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C103-40B3-4AD3-8FE9-D5F88BFF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506C-2C10-47B8-9C27-E2A1DAB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D9DD-235E-478B-BFBD-1FBE715B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0387-1D2D-469C-9FAC-5011B78B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474C3-B7BC-4CD4-A775-E8F31B3A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C770A-B808-4C63-97EA-9FE97671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6855-89C5-4B4C-82F4-354637C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16FE-1E02-43AC-BB76-180E3DAB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36C59-F18A-4FEE-9078-C4AE2B4B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E45B-F030-4B7C-B032-8B5522B9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ED165-DCD4-4939-AEF2-3E6D4FD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3717-478F-48F2-9E43-247EF54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5F2A-87E3-4AC8-98A2-89947CE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F081-58E5-450D-A7E7-3C9DCD15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52D3-822D-4643-B3BE-2973E260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8718-A49B-43AA-9905-328FB71EA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6EB93-7434-4FD0-83F8-592FA07B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DA01C-D200-4410-84FB-074B0248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B58-3C7D-4977-A490-1225DEB3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60B7-D7DC-4532-96EA-ABAACB6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E8FEE-BC01-440F-B21A-F9A83523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D962-BB93-431C-B014-6F482688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FB78B-C679-402A-AADB-0C8CB31E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ACA9B-06AF-4DD9-BE3A-6A1324C7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C50EC-C76C-4209-A1A0-F05010A1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B55D3-9E6C-4E3F-944E-5419736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F12BE-2EC9-4ABF-8FE7-5A4F7EB5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3B486-D334-4704-877B-E7C23AA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677DE-DA27-40C4-A091-EE485F35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C31C-B096-498B-9FCF-628CE234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346BF-CA5B-4422-B639-7F10B83B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B4B-C91A-40FF-BCFB-27F4D7F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5759-10B6-4243-8386-6BAB7C88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5AD-5D4F-4569-959B-6E5A84A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1DBB-193D-4862-A915-01BF11BCA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8778-13D9-40C4-86F9-66C71DFEEA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F46C-831D-48B3-B54D-ECD519A2A4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3820-A147-4720-94C6-221883815E2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A5E7-EBEE-4A8F-A5ED-4E48D430BE4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371600" y="4876920"/>
            <a:ext cx="609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457200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Gigi"/>
              </a:rPr>
              <a:t>Katie’s</a:t>
            </a:r>
            <a:r>
              <a:rPr b="1" lang="en-US" sz="3600" spc="-1" strike="noStrike">
                <a:solidFill>
                  <a:srgbClr val="996600"/>
                </a:solidFill>
                <a:latin typeface="Gigi"/>
              </a:rPr>
              <a:t>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66880" y="160020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Eras Bold ITC"/>
              </a:rPr>
              <a:t>Our Little Se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949640" cy="62150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 rot="1582200">
            <a:off x="1752120" y="4952520"/>
            <a:ext cx="1395360" cy="14194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3076560"/>
            <a:ext cx="2421000" cy="37814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 rot="20967000">
            <a:off x="228240" y="1219320"/>
            <a:ext cx="38862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Goudy Stout"/>
              </a:rPr>
              <a:t>The Seed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371600" y="228600"/>
            <a:ext cx="754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Forte"/>
              </a:rPr>
              <a:t>One day, our Science class had a </a:t>
            </a:r>
            <a:r>
              <a:rPr b="1" lang="en-US" sz="4000" spc="-1" strike="noStrike">
                <a:solidFill>
                  <a:srgbClr val="cc6600"/>
                </a:solidFill>
                <a:latin typeface="Forte"/>
              </a:rPr>
              <a:t>SEED WALK</a:t>
            </a:r>
            <a:r>
              <a:rPr b="1" lang="en-US" sz="4000" spc="-1" strike="noStrike">
                <a:solidFill>
                  <a:srgbClr val="993300"/>
                </a:solidFill>
                <a:latin typeface="Forte"/>
              </a:rPr>
              <a:t> – a tour around the campus to look for seeds.</a:t>
            </a:r>
            <a:r>
              <a:rPr b="1" lang="en-US" sz="4000" spc="-1" strike="noStrike">
                <a:solidFill>
                  <a:srgbClr val="000000"/>
                </a:solidFill>
                <a:latin typeface="Fort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3657600"/>
            <a:ext cx="541008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Forte"/>
              </a:rPr>
              <a:t>We observed the </a:t>
            </a:r>
            <a:r>
              <a:rPr b="1" lang="en-US" sz="4000" spc="-1" strike="noStrike">
                <a:solidFill>
                  <a:srgbClr val="663300"/>
                </a:solidFill>
                <a:latin typeface="Forte"/>
              </a:rPr>
              <a:t>diversity of plant life</a:t>
            </a:r>
            <a:r>
              <a:rPr b="1" lang="en-US" sz="4000" spc="-1" strike="noStrike">
                <a:solidFill>
                  <a:srgbClr val="996633"/>
                </a:solidFill>
                <a:latin typeface="Forte"/>
              </a:rPr>
              <a:t> and the </a:t>
            </a:r>
            <a:r>
              <a:rPr b="1" lang="en-US" sz="4000" spc="-1" strike="noStrike">
                <a:solidFill>
                  <a:srgbClr val="663300"/>
                </a:solidFill>
                <a:latin typeface="Forte"/>
              </a:rPr>
              <a:t>ecosystem</a:t>
            </a:r>
            <a:r>
              <a:rPr b="1" lang="en-US" sz="4000" spc="-1" strike="noStrike">
                <a:solidFill>
                  <a:srgbClr val="996633"/>
                </a:solidFill>
                <a:latin typeface="Forte"/>
              </a:rPr>
              <a:t> as a wh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-57240"/>
            <a:ext cx="9220320" cy="69152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114800"/>
            <a:ext cx="3733560" cy="2057400"/>
          </a:xfrm>
          <a:prstGeom prst="cloudCallout">
            <a:avLst>
              <a:gd name="adj1" fmla="val -70111"/>
              <a:gd name="adj2" fmla="val -63115"/>
            </a:avLst>
          </a:prstGeom>
          <a:solidFill>
            <a:srgbClr val="ccffcc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3412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This is Julie during the Seed Walk </a:t>
            </a: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60093"/>
                </a:solidFill>
                <a:latin typeface="Arial Black"/>
              </a:rPr>
              <a:t>Water</a:t>
            </a: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 is the </a:t>
            </a:r>
            <a:r>
              <a:rPr b="1" i="1" lang="en-US" sz="2800" spc="-1" strike="noStrike">
                <a:solidFill>
                  <a:srgbClr val="800080"/>
                </a:solidFill>
                <a:latin typeface="Arial Black"/>
              </a:rPr>
              <a:t>manipulated variable</a:t>
            </a:r>
            <a:r>
              <a:rPr b="1" lang="en-US" sz="2800" spc="-1" strike="noStrike">
                <a:solidFill>
                  <a:srgbClr val="800080"/>
                </a:solidFill>
                <a:latin typeface="Arial Black"/>
              </a:rPr>
              <a:t> in this experi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380880"/>
            <a:ext cx="2057400" cy="1447920"/>
          </a:xfrm>
          <a:prstGeom prst="cloudCallout">
            <a:avLst>
              <a:gd name="adj1" fmla="val -65893"/>
              <a:gd name="adj2" fmla="val 68421"/>
            </a:avLst>
          </a:prstGeom>
          <a:solidFill>
            <a:srgbClr val="ffcc99">
              <a:alpha val="69000"/>
            </a:srgbClr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Black"/>
              </a:rPr>
              <a:t>This is John! </a:t>
            </a:r>
            <a:r>
              <a:rPr b="0" lang="en-US" sz="2400" spc="-1" strike="noStrike">
                <a:solidFill>
                  <a:srgbClr val="6633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600200" y="533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371600" y="380880"/>
            <a:ext cx="7162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507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atin typeface="Gill Sans Ultra Bold"/>
              </a:rPr>
              <a:t>Result of our Experiment</a:t>
            </a:r>
            <a:endParaRPr b="0" lang="en-US" sz="4000" spc="1" strike="noStrike">
              <a:ln w="507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atin typeface="Gill Sans Ultra Bold"/>
              <a:ea typeface="Gill Sans Ultra Bold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3229200" cy="39621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95400">
            <a:solidFill>
              <a:srgbClr val="80008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3480" y="73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57200"/>
            <a:ext cx="5790960" cy="69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Today we finished our experiment. At long la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I can’t believe seeds can grow into huge plants! Our group had so much fun as much as we did during the seed wal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I look forward to more fun activities in Scienc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Gigi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Goudy Stout"/>
              </a:rPr>
              <a:t>-Jason </a:t>
            </a:r>
            <a:r>
              <a:rPr b="1" lang="en-US" sz="2800" spc="-1" strike="noStrike">
                <a:solidFill>
                  <a:srgbClr val="660033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2895480" cy="2200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334120" y="533520"/>
            <a:ext cx="3476520" cy="3357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1905120" y="2438280"/>
            <a:ext cx="2854080" cy="3409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966800">
            <a:off x="685800" y="2971440"/>
            <a:ext cx="838080" cy="838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8789600">
            <a:off x="5181480" y="4647960"/>
            <a:ext cx="8380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50292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y: Jessic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615636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Journal Entr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3:43:08Z</dcterms:created>
  <dc:creator>nave1386</dc:creator>
  <dc:description/>
  <dc:language>en-US</dc:language>
  <cp:lastModifiedBy>nave1386</cp:lastModifiedBy>
  <dcterms:modified xsi:type="dcterms:W3CDTF">2010-09-22T23:55:36Z</dcterms:modified>
  <cp:revision>13</cp:revision>
  <dc:subject/>
  <dc:title>Slide 1</dc:title>
</cp:coreProperties>
</file>